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6420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6628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6420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6628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96080" cy="46483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96080" cy="46483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6420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6628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6420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6628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8400" y="658332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tty Hawk Case</a:t>
            </a:r>
            <a:endParaRPr b="0" lang="en-US" sz="1200" spc="-1" strike="noStrike">
              <a:solidFill>
                <a:srgbClr val="000000"/>
              </a:solidFill>
              <a:latin typeface="Times New Roman"/>
            </a:endParaRPr>
          </a:p>
        </p:txBody>
      </p:sp>
      <p:sp>
        <p:nvSpPr>
          <p:cNvPr id="7" name=""/>
          <p:cNvSpPr/>
          <p:nvPr/>
        </p:nvSpPr>
        <p:spPr>
          <a:xfrm>
            <a:off x="7601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E62D-D158-4015-B110-A7F2B5B43283}"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9656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EB8C-6AAE-47FA-847C-C27F62BC161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 descr=""/>
          <p:cNvPicPr/>
          <p:nvPr/>
        </p:nvPicPr>
        <p:blipFill>
          <a:blip r:embed="rId3"/>
          <a:stretch/>
        </p:blipFill>
        <p:spPr>
          <a:xfrm>
            <a:off x="0" y="0"/>
            <a:ext cx="9144000" cy="7135920"/>
          </a:xfrm>
          <a:prstGeom prst="rect">
            <a:avLst/>
          </a:prstGeom>
          <a:ln w="0">
            <a:noFill/>
          </a:ln>
        </p:spPr>
      </p:pic>
      <p:grpSp>
        <p:nvGrpSpPr>
          <p:cNvPr id="50" name=""/>
          <p:cNvGrpSpPr/>
          <p:nvPr/>
        </p:nvGrpSpPr>
        <p:grpSpPr>
          <a:xfrm>
            <a:off x="0" y="0"/>
            <a:ext cx="9144000" cy="6858000"/>
            <a:chOff x="0" y="0"/>
            <a:chExt cx="9144000" cy="6858000"/>
          </a:xfrm>
        </p:grpSpPr>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6368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EACE-BE5A-4BAE-9CE7-F870AFDB2035}"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919D-5D5C-41C0-8729-5BC4D0CE2E2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404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39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371240"/>
            <a:ext cx="7772400" cy="63180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Case</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Valuation – Analyst Reports</a:t>
            </a:r>
            <a:endParaRPr b="1" lang="en-US" sz="2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ith  Barney</a:t>
            </a:r>
            <a:endParaRPr b="1" lang="en-US" sz="2000" spc="-1" strike="noStrike">
              <a:solidFill>
                <a:srgbClr val="000000"/>
              </a:solidFill>
              <a:latin typeface="Arial"/>
            </a:endParaRPr>
          </a:p>
        </p:txBody>
      </p:sp>
      <p:pic>
        <p:nvPicPr>
          <p:cNvPr id="116"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 Brown</a:t>
            </a:r>
            <a:endParaRPr b="1" lang="en-US" sz="2000" spc="-1" strike="noStrike">
              <a:solidFill>
                <a:srgbClr val="000000"/>
              </a:solidFill>
              <a:latin typeface="Arial"/>
            </a:endParaRPr>
          </a:p>
        </p:txBody>
      </p:sp>
      <p:pic>
        <p:nvPicPr>
          <p:cNvPr id="118"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Stringfellow</a:t>
            </a:r>
            <a:endParaRPr b="1" lang="en-US" sz="2000" spc="-1" strike="noStrike">
              <a:solidFill>
                <a:srgbClr val="000000"/>
              </a:solidFill>
              <a:latin typeface="Arial"/>
            </a:endParaRPr>
          </a:p>
        </p:txBody>
      </p:sp>
      <p:pic>
        <p:nvPicPr>
          <p:cNvPr id="120"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Valuation Issues in the Case</a:t>
            </a:r>
            <a:endParaRPr b="1" lang="en-US" sz="1800" spc="-1" strike="noStrike">
              <a:solidFill>
                <a:srgbClr val="000000"/>
              </a:solidFill>
              <a:latin typeface="Arial"/>
            </a:endParaRPr>
          </a:p>
        </p:txBody>
      </p:sp>
      <p:sp>
        <p:nvSpPr>
          <p:cNvPr id="12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Issu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would you come up with a valuat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would you determine the multipl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ultiples (P/E, P/B, EV/EBITDA) should be use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check the consensus earnings forecas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Valuation Model Should be Use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gross margin mode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free cash flow model</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 Issu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value driver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history to assess forecast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financial ratios to assess forecasts</a:t>
            </a:r>
            <a:endParaRPr b="0" lang="en-US" sz="1400" spc="-1" strike="noStrike">
              <a:solidFill>
                <a:srgbClr val="000000"/>
              </a:solidFill>
              <a:latin typeface="Arial"/>
            </a:endParaRPr>
          </a:p>
          <a:p>
            <a:pPr lvl="1" marL="7430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Stringfellow Valuation</a:t>
            </a: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EP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E Ratio to Forecast EP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forecast of EPS Reasonabl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ost of capital and risk inherent in the P/E ratio</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Analysis</a:t>
            </a:r>
            <a:endParaRPr b="1" lang="en-US" sz="2000" spc="-1" strike="noStrike">
              <a:solidFill>
                <a:srgbClr val="000000"/>
              </a:solidFill>
              <a:latin typeface="Arial"/>
            </a:endParaRPr>
          </a:p>
        </p:txBody>
      </p:sp>
      <p:sp>
        <p:nvSpPr>
          <p:cNvPr id="12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 of forward analysi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s (P/E) in future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forecas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ive Valuation and Aggressive Earnings Forecast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Earnings Models</a:t>
            </a:r>
            <a:endParaRPr b="1" lang="en-US" sz="2000" spc="-1" strike="noStrike">
              <a:solidFill>
                <a:srgbClr val="000000"/>
              </a:solidFill>
              <a:latin typeface="Arial"/>
            </a:endParaRPr>
          </a:p>
        </p:txBody>
      </p:sp>
      <p:sp>
        <p:nvSpPr>
          <p:cNvPr id="12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ings per Share Forecas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s of items on the margi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ncrease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change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Planes</a:t>
            </a:r>
            <a:endParaRPr b="0" lang="en-US" sz="12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nse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nd Variable</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Planes</a:t>
            </a:r>
            <a:endParaRPr b="0" lang="en-US" sz="12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with Revenues</a:t>
            </a:r>
            <a:endParaRPr b="0" lang="en-US" sz="12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a:t>
            </a:r>
            <a:endParaRPr b="0" lang="en-US" sz="1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Stringfellow</a:t>
            </a:r>
            <a:endParaRPr b="1" lang="en-US" sz="2000" spc="-1" strike="noStrike">
              <a:solidFill>
                <a:srgbClr val="000000"/>
              </a:solidFill>
              <a:latin typeface="Arial"/>
            </a:endParaRPr>
          </a:p>
        </p:txBody>
      </p:sp>
      <p:sp>
        <p:nvSpPr>
          <p:cNvPr id="13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ngth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 earnings growth and a growth marke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rietary databas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Growth and the P/E Ratio</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Concentration</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craft Acquisitions</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727 is the world’s most popular aircraft and has been abundantly produced, KH should not have difficulty acquiring aircraft for use in future freighter service</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 and DCF - Value Drivers</a:t>
            </a: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value driv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the value drivers be modelled in determining the projected EP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isks associated with the value driv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freight Cas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this c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ly simple, generic c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valuation, merger, credit and strategic issue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merger structure issues (shares, cash,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merger accounting issue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sue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most appropriate valuation mode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analysts value the compan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valuations are appropriate for merger analysi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r issue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hould the merger be assess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the structure of the merger affect the transaction</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of targe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worthiness of combined company</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Background</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Evaluating the Merger</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Kalitta and Kitty Hawk</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erformance of combined compan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sues in the consolid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and Strategic Issue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November 19, 1997, Kitty Hawk merged certain wholly owned subsidiaries with and into each of the Kalitta Compani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ly with the Merger, the Company completed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Stock Offering,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te Offering and the Re-financing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in anticipation of the merger, Kitty Hawk purchased 16 727’s from Kalitta </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Management</a:t>
            </a:r>
            <a:endParaRPr b="1" lang="en-US" sz="2000" spc="-1" strike="noStrike">
              <a:solidFill>
                <a:srgbClr val="000000"/>
              </a:solidFill>
              <a:latin typeface="Arial"/>
            </a:endParaRPr>
          </a:p>
        </p:txBody>
      </p:sp>
      <p:sp>
        <p:nvSpPr>
          <p:cNvPr id="13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mediately after completion of this Common Stock Offering, Mr. Christopher as Chairman and Chief Executive Officer will own 5,673,436 shares, or approximately 30.6%, of the outstanding Common Stock, and Mr. Kalitta as Vice Chairman will own 5,099,150 shares, or approximately 27.5%, of the outstanding Common Stock.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ccess of the Company will depend, in some part, upon the ability of Messrs. Christopher and Kalitta to work together. Prior to the Merger, Messrs. Christopher and Kalitta were competitors and had disagreements, one of which resulted in litigation between Kitty Hawk and the Kalitta Companies. Disagreements between Messrs. Christopher and Kalitta in the future could delay or disrupt the Company's operations and have a material adverse effect on the Company and the value of the Common Stock.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rs. Christopher and Kalitta will enter into a voting agreement that, among other things, provides  that for thirty-six months after the Merger, Messrs. Christopher and Kalitta will vote their shares of Common Stock in favor of director nominees selected by a Nominating Committee or in certain cases, the Board of Directors. </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in the Merger</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in Merger</a:t>
            </a:r>
            <a:endParaRPr b="1" lang="en-US" sz="2000" spc="-1" strike="noStrike">
              <a:solidFill>
                <a:srgbClr val="000000"/>
              </a:solidFill>
              <a:latin typeface="Arial"/>
            </a:endParaRPr>
          </a:p>
        </p:txBody>
      </p:sp>
      <p:sp>
        <p:nvSpPr>
          <p:cNvPr id="14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rger Agreement. In September 1997, Kitty Hawk, Mr. Christopher, the Kalitta Companies and Mr. Kalitta entered into an Agreement and Plan of Merger (the "Merger Agreement"). Pursuant to the Merger Agreement, upon the satisfaction of the conditions to the Merger, each of the respective Kalitta Companies will be merged with and into separate subsidiaries of Kitty Hawk, with each of the respective Kalitta Companies surviving the Merger as a direct, wholly owned subsidiary of Kitty Hawk. At the effective time of the Merger, </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standing shares of capital stock of four of the Kalitta Companies will be converted, in the aggregate, into the right to receive 5,099,150 shares of Common Stock, and </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standing shares of the remaining Kalitta Company will be converted into the right to receive $20 million cash.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the execution of the Merger Agreement, the respective Boards of Directors of Kitty Hawk and the Kalitta Companies and Mr. Kalitta, as the sole shareholder of each of the Kalitta Companies, voted affirmatively to approve the Merger in accordance with the terms of the Merger Agreement and applicable la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Gave the Following</a:t>
            </a:r>
            <a:endParaRPr b="1" lang="en-US" sz="2000" spc="-1" strike="noStrike">
              <a:solidFill>
                <a:srgbClr val="000000"/>
              </a:solidFill>
              <a:latin typeface="Arial"/>
            </a:endParaRPr>
          </a:p>
        </p:txBody>
      </p:sp>
      <p:sp>
        <p:nvSpPr>
          <p:cNvPr id="144" name="PlaceHolder 2"/>
          <p:cNvSpPr>
            <a:spLocks noGrp="1"/>
          </p:cNvSpPr>
          <p:nvPr>
            <p:ph/>
          </p:nvPr>
        </p:nvSpPr>
        <p:spPr>
          <a:xfrm>
            <a:off x="457200" y="1646280"/>
            <a:ext cx="8229600" cy="45259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har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99,150) </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20 Mill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tirement             $265 Million</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Sources</a:t>
            </a:r>
            <a:endParaRPr b="1" lang="en-US" sz="2000" spc="-1" strike="noStrike">
              <a:solidFill>
                <a:srgbClr val="000000"/>
              </a:solidFill>
              <a:latin typeface="Arial"/>
            </a:endParaRPr>
          </a:p>
        </p:txBody>
      </p:sp>
      <p:sp>
        <p:nvSpPr>
          <p:cNvPr id="14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Public Offer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sh</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Uses</a:t>
            </a:r>
            <a:endParaRPr b="1" lang="en-US" sz="2000" spc="-1" strike="noStrike">
              <a:solidFill>
                <a:srgbClr val="000000"/>
              </a:solidFill>
              <a:latin typeface="Arial"/>
            </a:endParaRPr>
          </a:p>
        </p:txBody>
      </p:sp>
      <p:sp>
        <p:nvSpPr>
          <p:cNvPr id="14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litta Deb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litta Equity (Cash)</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s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Reserve Requirement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s and Uses in Documents</a:t>
            </a:r>
            <a:endParaRPr b="1" lang="en-US" sz="1800" spc="-1" strike="noStrike">
              <a:solidFill>
                <a:srgbClr val="000000"/>
              </a:solidFill>
              <a:latin typeface="Arial"/>
            </a:endParaRPr>
          </a:p>
        </p:txBody>
      </p:sp>
      <p:sp>
        <p:nvSpPr>
          <p:cNvPr id="15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Offering, net of underwriting discounts and expenses...  $329.1</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on Stock Offering, net of underwriting discounts and</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xpenses...............................................................................    38.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 Loan...............................................................................    45.9                                                            </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413.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inancings(1).....................................................................  $328.8</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quisition of two Boeing 747s...............................................    39.6</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paid pursuant to the Merger Agreement........................    20.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crow for conversion to freighter configuration of two</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oeing 747s(2).....................................................................    16.4</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6.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imated expenses(3)............................................................     2.2</a:t>
            </a:r>
            <a:endParaRPr b="0" lang="en-US" sz="900" spc="-1" strike="noStrike">
              <a:solidFill>
                <a:srgbClr val="000000"/>
              </a:solidFill>
              <a:latin typeface="Arial"/>
            </a:endParaRPr>
          </a:p>
          <a:p>
            <a:pPr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otal............................................................................  $413.0</a:t>
            </a:r>
            <a:endParaRPr b="0" lang="en-US" sz="900" spc="-1" strike="noStrike">
              <a:solidFill>
                <a:srgbClr val="000000"/>
              </a:solidFill>
              <a:latin typeface="Arial"/>
            </a:endParaRPr>
          </a:p>
          <a:p>
            <a:pPr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verview</a:t>
            </a:r>
            <a:endParaRPr b="1" lang="en-US" sz="2000" spc="-1" strike="noStrike">
              <a:solidFill>
                <a:srgbClr val="000000"/>
              </a:solidFill>
              <a:latin typeface="Arial"/>
            </a:endParaRPr>
          </a:p>
        </p:txBody>
      </p:sp>
      <p:sp>
        <p:nvSpPr>
          <p:cNvPr id="10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Descrip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Transac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Valua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ergies and Strategy</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script</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Modeling</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a:t>
            </a:r>
            <a:endParaRPr b="0" lang="en-US" sz="1600" spc="-1" strike="noStrike">
              <a:solidFill>
                <a:srgbClr val="000000"/>
              </a:solidFill>
              <a:latin typeface="Arial"/>
            </a:endParaRPr>
          </a:p>
          <a:p>
            <a:pPr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Accounting</a:t>
            </a:r>
            <a:endParaRPr b="1" lang="en-US" sz="2000" spc="-1" strike="noStrike">
              <a:solidFill>
                <a:srgbClr val="000000"/>
              </a:solidFill>
              <a:latin typeface="Arial"/>
            </a:endParaRPr>
          </a:p>
        </p:txBody>
      </p:sp>
      <p:sp>
        <p:nvSpPr>
          <p:cNvPr id="15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November 19, 1997, the Company acquired by merger all of the outstanding common stock of AIA, Kalitta Flying Service, Inc., FOL, OKT and AIT (collectively, the "Kalitta Companies") in exchange for 4,099,150 shares of the Company's common stock valued by an independent appraisal at approximately $60.3 million and $20 million in cash. The transaction has been accounted for as a purchase and accordingly the results of operations of the Kalitta Companies are included in the accompanying financial statements from November 19, 1997. </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s Used in Transaction</a:t>
            </a:r>
            <a:endParaRPr b="1" lang="en-US" sz="2000" spc="-1" strike="noStrike">
              <a:solidFill>
                <a:srgbClr val="000000"/>
              </a:solidFill>
              <a:latin typeface="Arial"/>
            </a:endParaRPr>
          </a:p>
        </p:txBody>
      </p:sp>
      <p:sp>
        <p:nvSpPr>
          <p:cNvPr id="15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nection with the acquisition of the Kalitta Companies in November 1997, the Company privately placed the Notes pursuant to Rule 144A of the Securities Act of 1933. Net proceeds to the Company were $329.1 million. Costs incurred in issuing the Notes are being amortized over seven years. The net proceeds of the Notes, along with the net proceeds of a November 1997 3,000,000 share common stock offering, were used to </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efinance approximately $33 million of existing Kitty Hawk debt and to pay off approximately $250 million of the Kalitta Companies' pre-acquisition debt, </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provide for $56 million of cash to acquire and modify two Boeing 747s and </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provide for $20 million of cash to acquire the Kalitta Companies. The balance was used for working capital and expenses incurred in connection with the acquisitio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Rational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onal for Merger</a:t>
            </a:r>
            <a:endParaRPr b="1" lang="en-US" sz="2000" spc="-1" strike="noStrike">
              <a:solidFill>
                <a:srgbClr val="000000"/>
              </a:solidFill>
              <a:latin typeface="Arial"/>
            </a:endParaRPr>
          </a:p>
        </p:txBody>
      </p:sp>
      <p:sp>
        <p:nvSpPr>
          <p:cNvPr id="15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bination of Kitty Hawk and the Kalitta Companies pursuant to the Merger makes the Company one of the leading U.S. and international air freight carriers as well as the leading provider of air freight charter logistics services in the U.S. The Merger permits the Company to achieve a number of strategic and financial objectives, including:</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creased Utilization of On-Demand Aircraft. Prior to the Merger, less than 10% of the on-demand charters arranged by Kitty Hawk were flown on       Kitty Hawk's aircraft. With the addition of the Kalitta Companies‘ aircraft, the Company will direct a larger percentage of its on-demand charters to its own aircraft, rather than to third parties. Because on-demand charters flown on the Company's aircraft generate a higher gross margin than charters subcontracted to third parties, the Company believes this strategy will improve its profitability over time. </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nale for Merger - Growth Strategies</a:t>
            </a:r>
            <a:endParaRPr b="1" lang="en-US" sz="1800" spc="-1" strike="noStrike">
              <a:solidFill>
                <a:srgbClr val="000000"/>
              </a:solidFill>
              <a:latin typeface="Arial"/>
            </a:endParaRPr>
          </a:p>
        </p:txBody>
      </p:sp>
      <p:sp>
        <p:nvSpPr>
          <p:cNvPr id="15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STRATEGI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s revenue has grown significantly over the last several years and the Company believes it can continue to increase revenues through the following opportunities: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ansion of ACMI Charter Business. The Company believes there are, and will continue to be, opportunities to obtain ACMI contracts with international air carriers due to the projected shortage of wide-body aircraft needed to service those carrier's markets. The Company intends to expand its fleet of wide-body freighter aircraft by acquiring three Boeing 747 aircraft from Middle East Airlines Airliban, S.A.I. (the "MEA Boeing 747s"). The Company plans to focus its efforts in the European,South American and Asia/Pacific markets and to connect route systems in those markets with its scheduled North American route system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 Rationale Growth Strategies</a:t>
            </a:r>
            <a:endParaRPr b="1" lang="en-US" sz="1800" spc="-1" strike="noStrike">
              <a:solidFill>
                <a:srgbClr val="000000"/>
              </a:solidFill>
              <a:latin typeface="Arial"/>
            </a:endParaRPr>
          </a:p>
        </p:txBody>
      </p:sp>
      <p:sp>
        <p:nvSpPr>
          <p:cNvPr id="16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xpansion of On-Demand Charter Business. The Company believes there are significant opportunities to grow its on-demand charter business because of continuing demand for expedited air freight delivery services, especially in the case of "just-in-time" inventory systems and other time sensitive shipments. In addition to improving the utilization of the Kalitta Companies' aircraft, the Company anticipates purchasingadditional aircraft to capitalize on this expected growth.</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ansion of Third Party Maintenance Services. The Company is one of the few dedicated air freight carriers in the world capable of maintaining and repairing aircraft which range in size from Boeing 747s to prop aircraft. Although the Company currently provides aircraft maintenance services to several customers, including Lufthansa, the Company intends to significantly increase its marketing of its third party maintenance services. In particular, the Company intends to focus on marketing jet engine overhauls and maintenance, for which management believes there is a trend toward a limited number of service providers. </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 Rationale Growth Strategies</a:t>
            </a:r>
            <a:endParaRPr b="1" lang="en-US" sz="1800" spc="-1" strike="noStrike">
              <a:solidFill>
                <a:srgbClr val="000000"/>
              </a:solidFill>
              <a:latin typeface="Arial"/>
            </a:endParaRPr>
          </a:p>
        </p:txBody>
      </p:sp>
      <p:sp>
        <p:nvSpPr>
          <p:cNvPr id="16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xpansion of Scheduled Freight Business. Because of the growth in the       amount of freight shipped through its scheduled overnight freight hub in       Terre Haute, Indiana, the Company anticipates moving its hub from Terre       Haute to a new facility in Fort Wayne, Indiana in the spring of 1999. This new facility is expected to have nearly twice the sorting capacity of the Terre Haute, Indiana facility. In addition, the new facility is designed to improve productivity by reducing the time to load and unload aircraft and by decreasing sorting tim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rategic Acquisitions. The Company will, from time to time, pursue       acquisitions that enable it to (i) acquire complementary aircraft at       favorable costs, (ii) expand its operations in selected geographic areas or (iii) achieve other strategic or operational benefits.</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Rational – Cost Savings</a:t>
            </a:r>
            <a:endParaRPr b="1" lang="en-US" sz="2000" spc="-1" strike="noStrike">
              <a:solidFill>
                <a:srgbClr val="000000"/>
              </a:solidFill>
              <a:latin typeface="Arial"/>
            </a:endParaRPr>
          </a:p>
        </p:txBody>
      </p:sp>
      <p:sp>
        <p:nvSpPr>
          <p:cNvPr id="16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believes the Merger will permit it to achieve annual cost savings by enabling it to increase the Kalitta Companies' crew utilization, reduce Kitty Hawk's reliance on third party maintenance, reduce parts inventory and consolidate duplicative airport support bases as well as through other economies of scale, including lower aircraft insurance premium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tegration of Fleet Operations. The Company believes the Merger will permit it to integrate the Kalitta Companies' scheduled air freight operations with Kitty Hawk's air freight carrier services, resulting in expanded customer services and increased revenues. The combined fleet should also enhance operating efficiencies and revenues by better matching aircraft size and operating capabilities with route systems and customer need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e Company believes the resultant combination of services and fleet capabilities will provide new domestic and international marketing opportuniti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nal for Merger Kalitta Leverage</a:t>
            </a:r>
            <a:endParaRPr b="1" lang="en-US" sz="1800" spc="-1" strike="noStrike">
              <a:solidFill>
                <a:srgbClr val="000000"/>
              </a:solidFill>
              <a:latin typeface="Arial"/>
            </a:endParaRPr>
          </a:p>
        </p:txBody>
      </p:sp>
      <p:sp>
        <p:nvSpPr>
          <p:cNvPr id="16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alitta Companies are heavily leveraged. Since 1995, the Kalitta Companies have from time to time been in default under certain covenants of their loan agreement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financial issues contributed to the Kalitta Companie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entering into an agreement on July 31, 1997 to sell sixteen Boeing 727s to Kitty Hawk in order to generate cash for the acquisition and modification of wide-body aircraft and to provide working capital an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pursuing the Merge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litta Problems</a:t>
            </a:r>
            <a:endParaRPr b="1" lang="en-US" sz="2000" spc="-1" strike="noStrike">
              <a:solidFill>
                <a:srgbClr val="000000"/>
              </a:solidFill>
              <a:latin typeface="Arial"/>
            </a:endParaRPr>
          </a:p>
        </p:txBody>
      </p:sp>
      <p:sp>
        <p:nvSpPr>
          <p:cNvPr id="16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alitta Companies believe that the following five factors have primarily accounted for the decline in their financial performance:</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currence of abnormally high jet engine overhaul expenses resulting from the Kalitta Companies compliance with a series of Directives issued in early 1996,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in January 1996, the loss of revenues resulting from the effective grounding of two Boeing 747s pursuant to a series of Directives,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currence of start-up costs associated with establishing the Kalitta Companies' large aircraft passenger charter business,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currence of costs to add and maintain flight crews in anticipation of increased air carrier business which has not yet materialized in part due to delays in acquiring aircraft and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cline in revenues from the U.S. Military resulting from a decrease in the air freight-only charter requirements of the U.S. Military and an increase in competition for that business.  </a:t>
            </a:r>
            <a:endParaRPr b="0" lang="en-US" sz="1400" spc="-1" strike="noStrike">
              <a:solidFill>
                <a:srgbClr val="000000"/>
              </a:solidFill>
              <a:latin typeface="Arial"/>
            </a:endParaRPr>
          </a:p>
          <a:p>
            <a:pPr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Description - Background</a:t>
            </a:r>
            <a:endParaRPr b="1" lang="en-US" sz="20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of Combined Company</a:t>
            </a:r>
            <a:endParaRPr b="1" lang="en-US" sz="2000" spc="-1" strike="noStrike">
              <a:solidFill>
                <a:srgbClr val="000000"/>
              </a:solidFill>
              <a:latin typeface="Arial"/>
            </a:endParaRPr>
          </a:p>
        </p:txBody>
      </p:sp>
      <p:sp>
        <p:nvSpPr>
          <p:cNvPr id="17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Market Position. </a:t>
            </a:r>
            <a:endParaRPr b="0" lang="en-US" sz="1600" spc="-1" strike="noStrike">
              <a:solidFill>
                <a:srgbClr val="000000"/>
              </a:solidFill>
              <a:latin typeface="Arial"/>
            </a:endParaRPr>
          </a:p>
          <a:p>
            <a:pPr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including its predecessors, has provided air freight carrier services for more than 30 years. The Company's extensive fleet and the diversity of its air freight carrier services (scheduled, contract charters and on-demand charters) have enabled it to become a leading U.S. and international air freight carrier. The Company has a diversified customer base, including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reight forwarders such as Burlington Air Express, Eagle USA and Emery Worldwide Airlines,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U.S. government agencies such as the U.S. Postal Service and the U.S. Military and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businesses such as General Motors and Boeing.</a:t>
            </a:r>
            <a:endParaRPr b="0" lang="en-US" sz="1600" spc="-1" strike="noStrike">
              <a:solidFill>
                <a:srgbClr val="000000"/>
              </a:solidFill>
              <a:latin typeface="Arial"/>
            </a:endParaRPr>
          </a:p>
          <a:p>
            <a:pPr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of Combined Company</a:t>
            </a:r>
            <a:endParaRPr b="1" lang="en-US" sz="2000" spc="-1" strike="noStrike">
              <a:solidFill>
                <a:srgbClr val="000000"/>
              </a:solidFill>
              <a:latin typeface="Arial"/>
            </a:endParaRPr>
          </a:p>
        </p:txBody>
      </p:sp>
      <p:sp>
        <p:nvSpPr>
          <p:cNvPr id="17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active Flee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believes that it has been successful in purchasing and modifying aircraft for its own fleet at favorable costs. The aircraft in the Company's fleet range from Boeing 747s to prop aircraft, enabling the Company to provide its customers with the aircraft type best suited to their particular transportation need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and diversity of its fleet also allows the Company to deploy aircraft among its three air freight carrier service lines in a manner which improves fleet utilization.</a:t>
            </a:r>
            <a:endParaRPr b="0" lang="en-US" sz="1600" spc="-1" strike="noStrike">
              <a:solidFill>
                <a:srgbClr val="000000"/>
              </a:solidFill>
              <a:latin typeface="Arial"/>
            </a:endParaRPr>
          </a:p>
          <a:p>
            <a:pPr marL="3430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of Combined Company</a:t>
            </a:r>
            <a:endParaRPr b="1" lang="en-US" sz="2000" spc="-1" strike="noStrike">
              <a:solidFill>
                <a:srgbClr val="000000"/>
              </a:solidFill>
              <a:latin typeface="Arial"/>
            </a:endParaRPr>
          </a:p>
        </p:txBody>
      </p:sp>
      <p:sp>
        <p:nvSpPr>
          <p:cNvPr id="17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ad Service Capabilities.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 believes that its air freight carrier services are attractive to its customers for several reasons, including </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its history of providing reliable service,</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i) its ability  to provide time-definite air transportation of almost any type or size of       freight to most destinations worldwide upon short notice, </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its  ability to manage critical freight shipments in North America from pick-up through delivery and </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its ability to provide its customers with real time updates of aircraft location and progress. In addition, the Company is able to coordinate its domestic and international       scheduled services to offer customers reliable freight delivery service to and from North America and the Pacific Rim and Central and South America. </a:t>
            </a:r>
            <a:endParaRPr b="0" lang="en-US" sz="12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s capabilities are enhanced by its management information systems which enable the Company to continually monitor its flight operations, thereby facilitating aircraft and flight crew       scheduling</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alysi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y Analysis - Expense Reductions</a:t>
            </a:r>
            <a:endParaRPr b="1" lang="en-US" sz="1800" spc="-1" strike="noStrike">
              <a:solidFill>
                <a:srgbClr val="000000"/>
              </a:solidFill>
              <a:latin typeface="Arial"/>
            </a:endParaRPr>
          </a:p>
        </p:txBody>
      </p:sp>
      <p:sp>
        <p:nvSpPr>
          <p:cNvPr id="17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means were identified for substantially reducing the current levels of certain operating expenses of the Kalitta Companies following the consummation of the Transactions.</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insuring all the aircraft of the combined companies under one hull and   liability policy, it is estimated that the Company's annual insurance premium costs will be reduced by approximately $1.5 million during the first year following the Merger. Management also expects that Kitty Hawk's maintenance expense can be reduced by shifting previously outsourced maintenance to the Kalitta Companies' maintenance facilities.</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ing</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more, there are potential cost savings to be gained (i) from       purchasing in bulk certain supplies, including fuel and (ii) through parts inventory reduction permitted by the scale of the combined operations.</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Expenses</a:t>
            </a:r>
            <a:endParaRPr b="1" lang="en-US" sz="2000" spc="-1" strike="noStrike">
              <a:solidFill>
                <a:srgbClr val="000000"/>
              </a:solidFill>
              <a:latin typeface="Arial"/>
            </a:endParaRPr>
          </a:p>
        </p:txBody>
      </p:sp>
      <p:sp>
        <p:nvSpPr>
          <p:cNvPr id="18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agement of Kitty Hawk and the Kalitta Companies expect engine      overhaul expense to be a lower percentage of revenues in future periods and do not expect passenger charter service start-up costs to recur. </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believe that crew and aircraft utilization can be improved because the Merger will afford the Company opportunities to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irect more  on-demand charters to the Kalitta Companies' small aircraft, rather than to third parties and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direct on-demand charters to Boeing 727s used in the Company's scheduled overnight freight operations which have been used infrequently for on-demand charters in the past.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the Company also expects to increase its charter business with the U.S. Military because the Kalitta Companies recently became eligible to fly      passenger charters for the U.S. Military.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also expects to partially mitigate the ongoing effects of the Directive that effectively grounded the Boeing 747s by returning one of them to limited load service in the latter half of 1998.</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ies - Improved Capital Resources.</a:t>
            </a:r>
            <a:endParaRPr b="1" lang="en-US" sz="1800" spc="-1" strike="noStrike">
              <a:solidFill>
                <a:srgbClr val="000000"/>
              </a:solidFill>
              <a:latin typeface="Arial"/>
            </a:endParaRPr>
          </a:p>
        </p:txBody>
      </p:sp>
      <p:sp>
        <p:nvSpPr>
          <p:cNvPr id="18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ummation of this Common Stock Offering and the Note Offering will provide the Company with sufficient capital resources to refinance indebtedness of the Kalitta Companies on more favorable terms and provide working capital.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the Company will have sufficient capital resources to enable it to acquire the MEA Boeing 747s and associated spare engines and parts which it      expects to purchase.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the Kalitta Companies have been hindered       due to their liquidity problems and lack of capital resources.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ies - Adoption of Kitty Hawk Management Discipline</a:t>
            </a:r>
            <a:endParaRPr b="1" lang="en-US" sz="1800" spc="-1" strike="noStrike">
              <a:solidFill>
                <a:srgbClr val="000000"/>
              </a:solidFill>
              <a:latin typeface="Arial"/>
            </a:endParaRPr>
          </a:p>
        </p:txBody>
      </p:sp>
      <p:sp>
        <p:nvSpPr>
          <p:cNvPr id="18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inally, in examining ways for improving the financial performance of the Kalitta Companies, it was recognized that Kitty Hawk's management has emphasized profitability, as contrasted to the Kalitta Companies which have primarily focused on growing revenues and fleet size.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Merger, the Company intends to apply the management discipline of Kitty Hawk to the day-to-day operations of the Kalitta Companie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Modeling</a:t>
            </a: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lone Analysis - Capital Expenditure Assumptions</a:t>
            </a:r>
            <a:endParaRPr b="1" lang="en-US" sz="1800" spc="-1" strike="noStrike">
              <a:solidFill>
                <a:srgbClr val="000000"/>
              </a:solidFill>
              <a:latin typeface="Arial"/>
            </a:endParaRPr>
          </a:p>
        </p:txBody>
      </p:sp>
      <p:sp>
        <p:nvSpPr>
          <p:cNvPr id="18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we are in compliance with the Noise Regulations. </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wn 71 aircraft and lease seven aircraft that are affected by the Noise Regulations, consisting of 11 Boeing 747s (two of which are grounded due to a series of FAA Airworthiness Directives unrelated to the Noise Regulations), eight Lockheed L-1011s, 19 Douglas DC-8s, 35 Boeing 727s and five Douglas DC-9-15Fs (collectively, the "Jet Flee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ircraft in the Jet Fleet must comply with Stage 3 of the Noise Regulations by January 1, 2000. Any aircraft not complying with Stage 3 of the Noise Regulations on January 1, 2000 may not be operated in the U.S. until it complies with Stage 3 of such regulations. Of the 78 aircraft in the Jet Fleet, 55 aircraft currently comply with Stage 3 of the Noise Regulations or are currently being modified to comply with Stage 3 of such regulations, including all of our Boeing 747s and Lockheed L-1011s.</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Strategy</a:t>
            </a: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s strategy is to continue its rapid growth by: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cquiring additional Boeing 727-200 aircraft primarily for its ACMI contract business to meet expected growth in air freight transportation demand in both the North American and Pacific Rim markets,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increasing its focus on marketing to firms reducing inventory and shortening product cycle times through direct air shipments from manufacturer to end user,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continuing to provide high quality service through the ongoing development and enhancement of its computerized database, information software, and tracking systems, and</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pursuing the acquisition of domestic and international strategic suppliers of on-demand air and related ground transportation servic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Standalone – Capital Expenditures</a:t>
            </a:r>
            <a:endParaRPr b="1" lang="en-US" sz="1800" spc="-1" strike="noStrike">
              <a:solidFill>
                <a:srgbClr val="000000"/>
              </a:solidFill>
              <a:latin typeface="Arial"/>
            </a:endParaRPr>
          </a:p>
        </p:txBody>
      </p:sp>
      <p:sp>
        <p:nvSpPr>
          <p:cNvPr id="18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were $39.5 million and $17 million for the six months ended June 30, 1997 and 1996, respectively. </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for the six months ended June 30, 1997 were primarily for: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haul of two JT8D-7 jet engines and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chase of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wo Boeing 727-200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cargo and noise abatement modifications for two Boeing 727-200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noise abatement equipment with respect to one DC-9-15F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six reconditioned JT8D-7 jet engines,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leasehold improvements to Boeing 727-200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e leasehold and improvements of its 40,000 square foot headquarters facility,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major maintenance checks and (viii) ground service equipment. </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for the six months ended June 30, 1996 were primarily for the purchase of (i) three Boeing 727-200 aircraft and (ii) cargo and noise abatement modifications for two Boeing 727-200 aircraft.</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Model - Revenues</a:t>
            </a:r>
            <a:endParaRPr b="1" lang="en-US" sz="2000" spc="-1" strike="noStrike">
              <a:solidFill>
                <a:srgbClr val="000000"/>
              </a:solidFill>
              <a:latin typeface="Arial"/>
            </a:endParaRPr>
          </a:p>
        </p:txBody>
      </p:sp>
      <p:sp>
        <p:nvSpPr>
          <p:cNvPr id="19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demand cargo services are derived from single trip or short-term air freight customers. Customers may be charged in one of two way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n "all-inclusive" flat fee on the basis of the aircraft type and number of miles to be flown, or,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the customer may charter the aircraft on an ACMI basis where the customer pays a negotiated rate for each "block hour" during which the aircraft is operating under its own power. This rate covers the cost to operate the aircraft, including crew, the cost of scheduled maintenance, insurance and ground support. Additional fees may be applicable for such costs as fuel, handling and ramp fees, customs support and ground transport.</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lone Model - Maintenance and Passenger</a:t>
            </a:r>
            <a:endParaRPr b="1" lang="en-US" sz="1800" spc="-1" strike="noStrike">
              <a:solidFill>
                <a:srgbClr val="000000"/>
              </a:solidFill>
              <a:latin typeface="Arial"/>
            </a:endParaRPr>
          </a:p>
        </p:txBody>
      </p:sp>
      <p:sp>
        <p:nvSpPr>
          <p:cNvPr id="19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s from passenger charter services consist principally of arrangements with tour operators for the transport of leisure travelers to domestic and international locations. The tour operators generally pay a fixed price for the use of the aircraft and assume the risk for both the sale of seats and any increase in fuel prices after a date fixed in the contrac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third party maintenance services are generated from engine, airframe and component repairs and overhauls provided to third parties.</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lone Model – Risks of Aircraft Availability</a:t>
            </a:r>
            <a:endParaRPr b="1" lang="en-US" sz="1800" spc="-1" strike="noStrike">
              <a:solidFill>
                <a:srgbClr val="000000"/>
              </a:solidFill>
              <a:latin typeface="Arial"/>
            </a:endParaRPr>
          </a:p>
        </p:txBody>
      </p:sp>
      <p:sp>
        <p:nvSpPr>
          <p:cNvPr id="19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revenues are dependent on having aircraft available for revenue service. </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ast, we have experienced unanticipated FAA Airworthiness Directives that have made aircraft unavailable for revenue service. In the event one or more of our aircraft are out of service for an extended period of time, whether due to Directives, accidents or otherwise, we may be forced to lease or purchase replacement aircraft and may be unable to fulfill our obligations under customer contracts. </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not assure you that if necessary, we could locate suitable replacement aircraft on acceptable terms. We do not maintain business interruption insurance to cover these risks. Loss of revenue from any such business interruption, damages for non-performance under customer contracts or costs to replace aircraft could have a material adverse effect on our business and the value of the common stock.</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Model</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19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 Equity Value in Transaction </a:t>
            </a:r>
            <a:endParaRPr b="0" lang="en-US" sz="18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Book Value of Equity</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action Fees (Like increases in transaction price)</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sset Write-up (Increase the book value of equity)</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sset Write-down (Decrease in book value of equity)</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crease in Liability (Decrease in book value)</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ecrease in Liability </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ividend from transaction (Decrease in book value)</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a:t>
            </a:r>
            <a:endParaRPr b="1" lang="en-US" sz="2000" spc="-1" strike="noStrike">
              <a:solidFill>
                <a:srgbClr val="000000"/>
              </a:solidFill>
              <a:latin typeface="Arial"/>
            </a:endParaRPr>
          </a:p>
        </p:txBody>
      </p:sp>
      <p:pic>
        <p:nvPicPr>
          <p:cNvPr id="200"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 – Write-up</a:t>
            </a:r>
            <a:endParaRPr b="1" lang="en-US" sz="2000" spc="-1" strike="noStrike">
              <a:solidFill>
                <a:srgbClr val="000000"/>
              </a:solidFill>
              <a:latin typeface="Arial"/>
            </a:endParaRPr>
          </a:p>
        </p:txBody>
      </p:sp>
      <p:pic>
        <p:nvPicPr>
          <p:cNvPr id="202"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 - Dividends</a:t>
            </a:r>
            <a:endParaRPr b="1" lang="en-US" sz="2000" spc="-1" strike="noStrike">
              <a:solidFill>
                <a:srgbClr val="000000"/>
              </a:solidFill>
              <a:latin typeface="Arial"/>
            </a:endParaRPr>
          </a:p>
        </p:txBody>
      </p:sp>
      <p:pic>
        <p:nvPicPr>
          <p:cNvPr id="204"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 – Transaction Costs</a:t>
            </a:r>
            <a:endParaRPr b="1" lang="en-US" sz="2000" spc="-1" strike="noStrike">
              <a:solidFill>
                <a:srgbClr val="000000"/>
              </a:solidFill>
              <a:latin typeface="Arial"/>
            </a:endParaRPr>
          </a:p>
        </p:txBody>
      </p:sp>
      <p:pic>
        <p:nvPicPr>
          <p:cNvPr id="206"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Strategy - Software</a:t>
            </a: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ng to Provide High Quality Services Through Enhanced Technology.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s full-time staff of five computer programmers intends to continue developing systems and software to enhance productivity, knowledge, and customer service. The Company has developed and is testing an Internet system to provide its account managers with real-time updates on available third party on-demand air charter aircraft across North America.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 believes that this system will enable it to meet customer demands more efficiently and quickly in the future. In addition, Kitty Hawk is working to enhance communication between its flight managers and flight crews by utilizing laptop computers with communications software that will enable the Company to quickly exchange operating data between Company headquarters and an aircraft, including while such aircraft is airborne.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increasing speed and reliability of communications through the use of these laptop computers, the Company believes it can reduce telecommunications and labor costs. Finally, Kitty Hawk intends to provide its maintenance and flight crews with on-line access to the latest operating and maintenance manuals stored on CD-ROMs. </a:t>
            </a:r>
            <a:endParaRPr b="0" lang="en-US" sz="14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Merger Results</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Synergies</a:t>
            </a:r>
            <a:endParaRPr b="1" lang="en-US" sz="2000" spc="-1" strike="noStrike">
              <a:solidFill>
                <a:srgbClr val="000000"/>
              </a:solidFill>
              <a:latin typeface="Arial"/>
            </a:endParaRPr>
          </a:p>
        </p:txBody>
      </p:sp>
      <p:sp>
        <p:nvSpPr>
          <p:cNvPr id="20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pany recently eliminated its passenger charter division and parked the four passenger planes in that division. In addition, the Company has stopped providing third party airframe repairs and engine overhaul services, other than on JT3 engines used on Douglas DC-8s and JT8 engines used on Boeing 727s and Douglas DC-9s.</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Synergies</a:t>
            </a:r>
            <a:endParaRPr b="1" lang="en-US" sz="2000" spc="-1" strike="noStrike">
              <a:solidFill>
                <a:srgbClr val="000000"/>
              </a:solidFill>
              <a:latin typeface="Arial"/>
            </a:endParaRPr>
          </a:p>
        </p:txBody>
      </p:sp>
      <p:sp>
        <p:nvSpPr>
          <p:cNvPr id="21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we intend to:</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liminate approximately 1,050 additional jobs at Kitty Hawk Internation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lose surplus portions of our Oscoda, Michigan maintenance     facility; an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reduce Kitty Hawk International's owned and leased operating fleet from 36 aircraft at December 31, 1998 to 19 aircraft at December 31, 1999, consisting of seven Boeing 747s, six Lockheed L-1011s and six Douglas DC-8s.</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Synergies</a:t>
            </a:r>
            <a:endParaRPr b="1" lang="en-US" sz="2000" spc="-1" strike="noStrike">
              <a:solidFill>
                <a:srgbClr val="000000"/>
              </a:solidFill>
              <a:latin typeface="Arial"/>
            </a:endParaRPr>
          </a:p>
        </p:txBody>
      </p:sp>
      <p:sp>
        <p:nvSpPr>
          <p:cNvPr id="21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Actions of Merged Compan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topped providing third party airframe repair and engine overhaul services, other than for JT3 and JT8 engin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opped passenger charters and parked the two Boeing 747s and two Lockheed L-1011s that flew passenger charters pending their disposition, possible cargo conversion or employment in other us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utsourced the majority of our major maintenance on our Boeing     747, Lockheed L-1011 and Douglas DC-8 aircraft, except for the overhaul ofJT3 engines used on Douglas DC-8 aircraft; an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eliminated approximately 450 jobs at Kitty Hawk International.</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Integration</a:t>
            </a:r>
            <a:endParaRPr b="1" lang="en-US" sz="2000" spc="-1" strike="noStrike">
              <a:solidFill>
                <a:srgbClr val="000000"/>
              </a:solidFill>
              <a:latin typeface="Arial"/>
            </a:endParaRPr>
          </a:p>
        </p:txBody>
      </p:sp>
      <p:sp>
        <p:nvSpPr>
          <p:cNvPr id="21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the last 16 months, we have been integrating the Kalitta Companies‘ operations with our pre-acquisition operations. We cannot assure you that we will be able to successfully complete integrating the Kalitta Companies‘ operations or achieve the goals that motivated us to acquire the Kalitta Companies, either of which could have a material adverse effect on our business and the value of the common stock.</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Integration</a:t>
            </a:r>
            <a:endParaRPr b="1" lang="en-US" sz="2000" spc="-1" strike="noStrike">
              <a:solidFill>
                <a:srgbClr val="000000"/>
              </a:solidFill>
              <a:latin typeface="Arial"/>
            </a:endParaRPr>
          </a:p>
        </p:txBody>
      </p:sp>
      <p:sp>
        <p:nvSpPr>
          <p:cNvPr id="217" name="PlaceHolder 2"/>
          <p:cNvSpPr>
            <a:spLocks noGrp="1"/>
          </p:cNvSpPr>
          <p:nvPr>
            <p:ph/>
          </p:nvPr>
        </p:nvSpPr>
        <p:spPr>
          <a:xfrm>
            <a:off x="685440" y="1447560"/>
            <a:ext cx="7086600" cy="419076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our acquisition of AIA (now Kitty Hawk International), we acquired a 60% interest in AIC. Pacific Aviation Logistics, Inc. ("PAL") owned the remaining 40% interest in AIC and was the managing partner of AIC. Beti Ward, who owns PAL, was the general manager of AIC. AIC operates a scheduled air freight service between Los Angeles, Honolulu and various destinations in the Pacific. AIC does not own any aircraft and currently leases all of its aircraft and facilities from u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ugust 1998, we called a partnership meeting to designate AIA as the managing partner of AIC and to replace Ms. Ward as general manager. In response, Ms. Ward and PAL filed suit to prevent these actions and requested the court to dissolve AIC. While these issues were being addressed in court, we reached a settlement with Ms. Ward and PAL.</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Integration Continued</a:t>
            </a:r>
            <a:endParaRPr b="1" lang="en-US" sz="2000" spc="-1" strike="noStrike">
              <a:solidFill>
                <a:srgbClr val="000000"/>
              </a:solidFill>
              <a:latin typeface="Arial"/>
            </a:endParaRPr>
          </a:p>
        </p:txBody>
      </p:sp>
      <p:sp>
        <p:nvSpPr>
          <p:cNvPr id="21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s of the settlement are:</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AIC will pay PAL a $5.4 million cash distribution from PAL's capital account in AIC.</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We will give Ms. Ward and PAL a promissory note for an additional $2.35 million, payable in three annual installments of $700,000 each and one final payment of $250,000. This promissory note bears interest at a rate of 9.98%, and interest is payable semi-annuall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Ms. Ward and PAL will transfer to us all of their interest in AIC and its business.</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Ms. Ward and PAL will broadly covenant not to compete in the Los Angeles and Honolulu air freight markets for a period of three and one-half  years.</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Ms. Ward and PAL will return approximately $180,000 worth of AIC's property.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 All the parties will exchange mutual releases, but we will retain the right to pursue audit actions and seek other limited recoveries against Ms. Ward and PAL.</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rad Kalitta</a:t>
            </a:r>
            <a:endParaRPr b="1" lang="en-US" sz="2000" spc="-1" strike="noStrike">
              <a:solidFill>
                <a:srgbClr val="000000"/>
              </a:solidFill>
              <a:latin typeface="Arial"/>
            </a:endParaRPr>
          </a:p>
        </p:txBody>
      </p:sp>
      <p:sp>
        <p:nvSpPr>
          <p:cNvPr id="22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17, 1998, Conrad A. Kalitta resigned from his position as our Vice Chairman and from all other officer and employee positions of the Company, including his position as Chief Executive Officer and President of Kitty Hawk International. Mr. Kalitta joined the Company upon the consummation of our November 1997 acquisition (the "Acquisition") of the Kalitta Companies from Mr. Kalitta.</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nection with his resignation, the Company, Mr. Kalitta and certain other affiliated parties entered into a Separation Agreement dated April 17, 1998, which was subsequently amended on June 5, 1998 (as amended, the "Separation Agreement"). Since that time, the parties to the Separation Agreement entered into an Agreement dated January 21, 1999 that modified certain provisions of the Separation Agreemen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s Releas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Strong 4th Quarter and Fiscal Year Results</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LLAS, Feb. 24, 2000</a:t>
            </a:r>
            <a:r>
              <a:rPr b="0" lang="en-US" sz="1600" spc="-1" strike="noStrike">
                <a:solidFill>
                  <a:srgbClr val="000000"/>
                </a:solidFill>
                <a:latin typeface="Arial"/>
              </a:rPr>
              <a:t> /PRNewswire/ -- Kitty Hawk, Inc. today announced net income for its fourth quarter and year ended December 31, 1999. For the fourth quarter of 1999, net income was $13.5 million or $0.79 per share (diluted), an 18% increase over fourth quarter 1998 net income of $11.5 million, or $0.68 per share (diluted).  Total revenues for the fourth quarter increased to $241.5 million, up from $233.8 million for the fourth quarter of the prior year.  Operating income for the fourth quarter increased 10% to $35.0 million, up from operating income of $31.8 million in the fourth quarter of 1998.</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year ended December 31, 1999, net income increased 41% to $23.5 million</a:t>
            </a:r>
            <a:r>
              <a:rPr b="1" i="1" lang="en-US" sz="1600" spc="-1" strike="noStrike">
                <a:solidFill>
                  <a:srgbClr val="000000"/>
                </a:solidFill>
                <a:latin typeface="Arial"/>
              </a:rPr>
              <a:t>, or $1.38 per share (diluted), compared with net income of $16.6 million or $0.99 per share (diluted) for 1998</a:t>
            </a:r>
            <a:r>
              <a:rPr b="0" lang="en-US" sz="1600" spc="-1" strike="noStrike">
                <a:solidFill>
                  <a:srgbClr val="000000"/>
                </a:solidFill>
                <a:latin typeface="Arial"/>
              </a:rPr>
              <a:t>. Revenues increased 4 percent to $731.4 million, up from revenues of $704.0 million for fiscal 1998. Operating income for 1999 increased to $75.5 million, a 7% increase over prior year operating income of $70.3 million. </a:t>
            </a:r>
            <a:r>
              <a:rPr b="1" i="1" lang="en-US" sz="1600" spc="-1" strike="noStrike">
                <a:solidFill>
                  <a:srgbClr val="000000"/>
                </a:solidFill>
                <a:latin typeface="Arial"/>
              </a:rPr>
              <a:t>Net income for 1999 includes approximately $10.2 million in other income, a majority of which resulted from the sale of the company's aircraft maintenance facility.</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Contracts</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MI Contract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craf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en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1" marL="7430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Cost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 Cargo</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ing Fe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 Handl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go Insuran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Strong 4th Quarter and Fiscal Year Results (Continued)</a:t>
            </a:r>
            <a:endParaRPr b="1" lang="en-US" sz="2000" spc="-1" strike="noStrike">
              <a:solidFill>
                <a:srgbClr val="000000"/>
              </a:solidFill>
              <a:latin typeface="Arial"/>
            </a:endParaRPr>
          </a:p>
        </p:txBody>
      </p:sp>
      <p:sp>
        <p:nvSpPr>
          <p:cNvPr id="22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logistics revenues were up 19% year-over-year due to very high demand for emergency transportation services by auto manufacturers during the second and third quarters of 1999.  Due in part to the shift of an aircraft out of the air freight carrier division and into the scheduled freight division during 1999, and in part to the discontinuation of our passenger charter operation in late 1998, air freight carrier revenues were down 13% for the year ended December 31, 1999, as compared with 1998.  The scheduled freight division's revenues grew more than 30% in 1999 as compared with 1998 due both to higher volumes of freight carried and a higher rate-per-pound charge.</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aircraft fuel costs negatively impacted 1999 results.  Fuel expense increased more than 10%, or $6.6 million, in 1999 as compared with 1998.  "Overall, 1999 was a very good year for Kitty Hawk, during which we positioned the company for continued growth and success while posting year-over-year increases in both revenues and net income despite higher than expected fuel costs," said Chairman and CEO M. Tom Christopher.  "We continued to rationalize our businesses during 1999, striving to further sharpen our focus on the core business of cargo transportation.  This focus resulted in changes in business units and in the aircraft fleet.  In addition, late in 1999 we were awarded a major six-year U.S. Postal Service contract, and our Kitty Hawk International pilots ratified a four-year employment contract with the Teamsters."</a:t>
            </a:r>
            <a:endParaRPr b="0" lang="en-US" sz="16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Strong 4th Quarter and Fiscal Year Results (Continued)</a:t>
            </a:r>
            <a:endParaRPr b="1" lang="en-US" sz="2000" spc="-1" strike="noStrike">
              <a:solidFill>
                <a:srgbClr val="000000"/>
              </a:solidFill>
              <a:latin typeface="Arial"/>
            </a:endParaRPr>
          </a:p>
        </p:txBody>
      </p:sp>
      <p:sp>
        <p:nvSpPr>
          <p:cNvPr id="22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er said, "As part of our focus on cargo transportation, we sold our dedicated aircraft maintenance facility, located in Oscoda, Michigan.  The sale produced a significant one-time gain during the year.  Our maintenance costs were down 12% in 1999 as compared with 1998 due, we believe, to better management of our maintenance costs.“ Christopher continued, "We continually evaluate the mix and type of aircraft in our fleet.  In 1999, we downsized our fleet of older Douglas DC-8. Thirteen of our 19 DC-8s are now parked in anticipation of a possible future sale. We now own and operate six Stage 3 compliant DC-8-60-series aircraft."</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er said, "In 1999, we finalized plans to add 12 leased Boeing 727 freighters to the fleet.  The 727s are newer, more dependable and cost-effective aircraft as compared with the DC-8s.  A large portion of these aircraft will join Kitty Hawk's scheduled freight service network, with the rest entering into ACMI lease arrangements."</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2000 focus is on growing the scheduled freight operation,“ Christopher concluded.  "We recently announced plans to expand our network to include service to more than 50 cities across the United States.  This service network, which is dedicated to our customer base of air freight forwarders and lead logistics providers, will enable our customers to sell next-day freight delivery to many parts of the world."</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lvl="3" marL="179064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Qtr. Ended  Qtr. Ended    Year Ended     Year Ended</a:t>
            </a:r>
            <a:endParaRPr b="0" lang="en-US" sz="8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Dec. 31,    Dec. 31,       Dec. 31,      Dec. 31,</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1999         1998           1999           1998</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venues</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ir logistics         $50,316     $50,817       $173,544       $145,958</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ir freight</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arrier              126,900     131,214        315,234        360,711</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cheduled freight      58,025      46,013        216,861        166,534</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aintenance and</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ther                  6,266       5,789         25,715         30,755</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otal revenues      241,507     233,833        731,354        703,958</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osts of revenues</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light expense        122,969     107,587        339,175        327,24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aintenance expense    32,465      46,884        133,736        151,552</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ircraft fuel          20,189      18,225         71,822         65,17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Depreciation           21,166      17,106         74,433         52,54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otal cost of</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venues           196,789     189,802        619,166        596,52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ross profit             44,718      44,031        112,188        107,42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l &amp; administrative</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expenses                 9,419      10,391         34,732         34,327</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Arial"/>
            </a:endParaRPr>
          </a:p>
        </p:txBody>
      </p:sp>
      <p:sp>
        <p:nvSpPr>
          <p:cNvPr id="2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INC. AND SUBSIDIARIES</a:t>
            </a:r>
            <a:br>
              <a:rPr sz="1800"/>
            </a:br>
            <a:r>
              <a:rPr b="1" lang="en-US" sz="1800" spc="-1" strike="noStrike">
                <a:solidFill>
                  <a:srgbClr val="000000"/>
                </a:solidFill>
                <a:latin typeface="Arial"/>
              </a:rPr>
              <a:t>CONDENSED CONSOLIDATED STATEMENTS OF INCOME</a:t>
            </a:r>
            <a:endParaRPr b="1"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INC. AND SUBSIDIARIES</a:t>
            </a:r>
            <a:br>
              <a:rPr sz="1800"/>
            </a:br>
            <a:r>
              <a:rPr b="1" lang="en-US" sz="1800" spc="-1" strike="noStrike">
                <a:solidFill>
                  <a:srgbClr val="000000"/>
                </a:solidFill>
                <a:latin typeface="Arial"/>
              </a:rPr>
              <a:t>CONDENSED CONSOLIDATED STATEMENTS OF INCOME</a:t>
            </a:r>
            <a:endParaRPr b="1" lang="en-US" sz="1800" spc="-1" strike="noStrike">
              <a:solidFill>
                <a:srgbClr val="000000"/>
              </a:solidFill>
              <a:latin typeface="Arial"/>
            </a:endParaRPr>
          </a:p>
        </p:txBody>
      </p:sp>
      <p:sp>
        <p:nvSpPr>
          <p:cNvPr id="23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lvl="3" marL="179064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Qtr. Ended  Qtr. Ended    Year Ended     Year Ended</a:t>
            </a:r>
            <a:endParaRPr b="0" lang="en-US" sz="7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ec. 31,    Dec. 31,       Dec. 31,      Dec. 31,</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999         1998           1999           1998</a:t>
            </a: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otal general &amp;</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dministrativ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expenses              9,761      12,197         36,728         37,124</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perating income         34,957      31,834         75,460         70,305</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ther income (expens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terest expens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et                  (12,232)    (11,290)       (48,678)       (40,173)</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iscellaneous, net       (200)       (519)        12,477            844</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otal other expense  (12,432)    (11,809)        36,201        (39,329)</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ome before minority</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terest                22,525      20,025         39,259         30,976</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inority interest         ---         534            196          3,006</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ome before incom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axes                   22,525      19,491         39,063         27,970</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ome tax expense        8,992       8,021         15,608         11,328</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et income              $13,533     $11,470        $23,455        $16,642</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iluted earnings per</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hare                    $0.79       $0.68          $1.38          $0.99</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hares outstanding   17,057,466  16,924,696     17,020,506     16,851,506</a:t>
            </a: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Reports Maintenance Delays, Softer Than Expected Airfreight Demand In First Quarter</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fontScale="98000"/>
          </a:bodyPr>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LLAS, March 7, 2000</a:t>
            </a:r>
            <a:r>
              <a:rPr b="0" lang="en-US" sz="1400" spc="-1" strike="noStrike">
                <a:solidFill>
                  <a:srgbClr val="000000"/>
                </a:solidFill>
                <a:latin typeface="Arial"/>
              </a:rPr>
              <a:t> /PRNewswire/ -- Kitty Hawk, Inc. today announced that unexpected maintenance and maintenance delays on several of its wide-body aircraft, along with softer than expected demand for airfreight, are negatively affecting first quarter performance.  Based on results from January and February, 2000, the company said: </a:t>
            </a:r>
            <a:endParaRPr b="0" lang="en-US" sz="1400" spc="-1" strike="noStrike">
              <a:solidFill>
                <a:srgbClr val="000000"/>
              </a:solidFill>
              <a:latin typeface="Arial"/>
            </a:endParaRPr>
          </a:p>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e wide-body aircraft division is reporting </a:t>
            </a:r>
            <a:r>
              <a:rPr b="1" lang="en-US" sz="1400" spc="-1" strike="noStrike">
                <a:solidFill>
                  <a:srgbClr val="000000"/>
                </a:solidFill>
                <a:latin typeface="Arial"/>
              </a:rPr>
              <a:t>fewer block hours</a:t>
            </a:r>
            <a:r>
              <a:rPr b="0" lang="en-US" sz="1400" spc="-1" strike="noStrike">
                <a:solidFill>
                  <a:srgbClr val="000000"/>
                </a:solidFill>
                <a:latin typeface="Arial"/>
              </a:rPr>
              <a:t> than expected due to delays in completion of scheduled maintenance and to </a:t>
            </a:r>
            <a:r>
              <a:rPr b="1" i="1" lang="en-US" sz="1400" spc="-1" strike="noStrike">
                <a:solidFill>
                  <a:srgbClr val="000000"/>
                </a:solidFill>
                <a:latin typeface="Arial"/>
              </a:rPr>
              <a:t>unexpected maintenance downtime</a:t>
            </a:r>
            <a:r>
              <a:rPr b="0" lang="en-US" sz="1400" spc="-1" strike="noStrike">
                <a:solidFill>
                  <a:srgbClr val="000000"/>
                </a:solidFill>
                <a:latin typeface="Arial"/>
              </a:rPr>
              <a:t> resulting from aircraft damage.  Kitty Hawk expects all aircraft currently in unscheduled maintenance to be in operation by the beginning of the second quarter of 2000.</a:t>
            </a:r>
            <a:endParaRPr b="0" lang="en-US" sz="1400" spc="-1" strike="noStrike">
              <a:solidFill>
                <a:srgbClr val="000000"/>
              </a:solidFill>
              <a:latin typeface="Arial"/>
            </a:endParaRPr>
          </a:p>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ofter than expected demand for airfreight is causing a shortfall in Kitty Hawk's scheduled freight division as compared with the company's  expectations.  However, scheduled freight volumes are up significantly over year-ago results.  Based on current trends, Kitty Hawk expects to see improvement in the scheduled freight division in the second quarter of 2000, as freight demand historically increases in the second quarter as compared with the first quarter.</a:t>
            </a:r>
            <a:endParaRPr b="0" lang="en-US" sz="1400" spc="-1" strike="noStrike">
              <a:solidFill>
                <a:srgbClr val="000000"/>
              </a:solidFill>
              <a:latin typeface="Arial"/>
            </a:endParaRPr>
          </a:p>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quarter historically is unprofitable for Kitty Hawk due to weaker airfreight demand," said Chairman and CEO M. Tom Christopher.  "The first quarter of 2000 is being further impacted by an unexpected maintenance situation, with several large aircraft in maintenance and expected to be out of revenue service for approximately half the quarter.“  Christopher said, "We are still very much on a growth track for 2000, especially in our scheduled freight operation, which has shown steady growth since 1999.  We are already seeing indications of improvement throughout the divisions as we approach the second quarter."</a:t>
            </a:r>
            <a:endParaRPr b="0" lang="en-US" sz="14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Announces Anticipated Write-Down of Certain Aviation Assets And Modification of Reported 1999 Operating Results, Non-compliance With Certain Maintenance Covenants Under Note Indenture, Potential Further Write-Down Of Certain Aviation Assets, Potential Inability to Pay May 15, 2000 Note Interest Payment, Resignation of Chief Financial Officer</a:t>
            </a:r>
            <a:endParaRPr b="1" lang="en-US" sz="1800" spc="-1" strike="noStrike">
              <a:solidFill>
                <a:srgbClr val="000000"/>
              </a:solidFill>
              <a:latin typeface="Arial"/>
            </a:endParaRPr>
          </a:p>
        </p:txBody>
      </p:sp>
      <p:sp>
        <p:nvSpPr>
          <p:cNvPr id="236" name="PlaceHolder 2"/>
          <p:cNvSpPr>
            <a:spLocks noGrp="1"/>
          </p:cNvSpPr>
          <p:nvPr>
            <p:ph/>
          </p:nvPr>
        </p:nvSpPr>
        <p:spPr>
          <a:xfrm>
            <a:off x="762120" y="2538360"/>
            <a:ext cx="7696080" cy="363384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LLAS, April 11, 2000</a:t>
            </a:r>
            <a:r>
              <a:rPr b="0" lang="en-US" sz="1800" spc="-1" strike="noStrike">
                <a:solidFill>
                  <a:srgbClr val="000000"/>
                </a:solidFill>
                <a:latin typeface="Arial"/>
              </a:rPr>
              <a:t> /PRNewswire/ -- Kitty Hawk, Inc. today announced that it anticipates a </a:t>
            </a:r>
            <a:r>
              <a:rPr b="1" i="1" lang="en-US" sz="1800" spc="-1" strike="noStrike">
                <a:solidFill>
                  <a:srgbClr val="000000"/>
                </a:solidFill>
                <a:latin typeface="Arial"/>
              </a:rPr>
              <a:t>write-down of the net book value of its Stage 2 DC-8 aircraft</a:t>
            </a:r>
            <a:r>
              <a:rPr b="0" lang="en-US" sz="1800" spc="-1" strike="noStrike">
                <a:solidFill>
                  <a:srgbClr val="000000"/>
                </a:solidFill>
                <a:latin typeface="Arial"/>
              </a:rPr>
              <a:t>, which cannot now be operated in the U.S. and are held for sale, to reflect current market valuations, and </a:t>
            </a:r>
            <a:r>
              <a:rPr b="1" i="1" lang="en-US" sz="1800" spc="-1" strike="noStrike">
                <a:solidFill>
                  <a:srgbClr val="000000"/>
                </a:solidFill>
                <a:latin typeface="Arial"/>
              </a:rPr>
              <a:t>a write off of certain capitalized costs of engines that are beyond economic repair</a:t>
            </a:r>
            <a:r>
              <a:rPr b="0" lang="en-US" sz="1800" spc="-1" strike="noStrike">
                <a:solidFill>
                  <a:srgbClr val="000000"/>
                </a:solidFill>
                <a:latin typeface="Arial"/>
              </a:rPr>
              <a:t>.  The write-downs will result in a charge that will require modification of the Company's reported 1999 operating results.  The Company has not yet issued its 1999 audited financial statements and has requested from its lenders waivers of its covenants to deliver those statements by March 30, 2000.</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11, 2000 Press Release Continued</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also announced that it is evaluating the economic viability of its Lockheed L-1011 fleet in the context of recent </a:t>
            </a:r>
            <a:r>
              <a:rPr b="1" i="1" lang="en-US" sz="1600" spc="-1" strike="noStrike">
                <a:solidFill>
                  <a:srgbClr val="000000"/>
                </a:solidFill>
                <a:latin typeface="Arial"/>
              </a:rPr>
              <a:t>unscheduled major maintenance requirements for the L-1011 engines.</a:t>
            </a:r>
            <a:r>
              <a:rPr b="0" lang="en-US" sz="1600" spc="-1" strike="noStrike">
                <a:solidFill>
                  <a:srgbClr val="000000"/>
                </a:solidFill>
                <a:latin typeface="Arial"/>
              </a:rPr>
              <a:t>  That evaluation is expected to be completed within the next 30 days and could result in a major write-down of the net book value of the L-1011 fleet, which was appraised in 1997 at a value of approximately $124 million.</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further announced that it is not in compliance with its covenants for maintenance of the required number of engines for its Lockheed L-1011 and Boeing 747 aircraft under the indenture securing its senior secured notes, which may require </a:t>
            </a:r>
            <a:r>
              <a:rPr b="1" i="1" lang="en-US" sz="1600" spc="-1" strike="noStrike">
                <a:solidFill>
                  <a:srgbClr val="000000"/>
                </a:solidFill>
                <a:latin typeface="Arial"/>
              </a:rPr>
              <a:t>expenditure of as much as $35 million to cure; and that unexpected aircraft-maintenance costs and delays</a:t>
            </a:r>
            <a:r>
              <a:rPr b="0" lang="en-US" sz="1600" spc="-1" strike="noStrike">
                <a:solidFill>
                  <a:srgbClr val="000000"/>
                </a:solidFill>
                <a:latin typeface="Arial"/>
              </a:rPr>
              <a:t>, sharply-higher fuel prices and softer-than-expected demand for scheduled freight in the first quarter 2000 have caused first-quarter 2000 operating results to fall short of consensus estimates, and have seriously eroded cash resources; </a:t>
            </a:r>
            <a:r>
              <a:rPr b="1" i="1" lang="en-US" sz="1600" spc="-1" strike="noStrike">
                <a:solidFill>
                  <a:srgbClr val="000000"/>
                </a:solidFill>
                <a:latin typeface="Arial"/>
              </a:rPr>
              <a:t>with the result that the Company expects to be unable to pay timely the May 15, 2000 interest payment of $17 million due on its senior secured notes or to cure its non-compliance with the indenture's maintenance covenants without a sale or refinancing of significant asset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11, 2000 Press Release Continued</a:t>
            </a:r>
            <a:endParaRPr b="1" lang="en-US" sz="2000" spc="-1" strike="noStrike">
              <a:solidFill>
                <a:srgbClr val="000000"/>
              </a:solidFill>
              <a:latin typeface="Arial"/>
            </a:endParaRPr>
          </a:p>
        </p:txBody>
      </p:sp>
      <p:sp>
        <p:nvSpPr>
          <p:cNvPr id="24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any gives no assurance that it will be able to sell or refinance sufficient assets to be able to make a timely interest payment or cure its engine-maintenance non-compliance, or that its cash position will not imperil its ability to fulfill other obligations necessary for continuation of its operations.  </a:t>
            </a:r>
            <a:r>
              <a:rPr b="1" i="1" lang="en-US" sz="1800" spc="-1" strike="noStrike">
                <a:solidFill>
                  <a:srgbClr val="000000"/>
                </a:solidFill>
                <a:latin typeface="Arial"/>
              </a:rPr>
              <a:t>The Company has been advised by its outside auditors, Ernst &amp; Young LLP, that their audit opinion will include a going-concern modification.</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he Company announced that Paul Tate, who became the Company's Senior Vice President and Chief Financial Officer on April 1, 2000 has resigned from those positions effective immediately, although he is expected to continue to assist the Company in a consulting role as the Company attempts to restructure its operations and to negotiate with the indenture trustee in an effort to cure defaults and potential defaults under the senior-note indenture.</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Management Changes and Retention of Financial Advisor</a:t>
            </a:r>
            <a:endParaRPr b="1" lang="en-US" sz="2000" spc="-1" strike="noStrike">
              <a:solidFill>
                <a:srgbClr val="000000"/>
              </a:solidFill>
              <a:latin typeface="Arial"/>
            </a:endParaRPr>
          </a:p>
        </p:txBody>
      </p:sp>
      <p:sp>
        <p:nvSpPr>
          <p:cNvPr id="24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LAS, April 20, 2000 /PRNewswire/ -- Kitty Hawk, Inc. today announced that the Board of Directors voted to remove M. Tom Christopher without cause as the Company's Chairman of the Board and Chief Executive Officer.  Mr. Christopher will remain a member of the Company's Board.  Timothy J. Reeves, the Company's President, will assume the duties of Chairman of the Board and Chief Executive Officer until the Board elects a successor.  In addition, Dan R. Garner resigned from the Board on April 12, and Richard R.</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dsworth resigned from the Board on April 19.  Further, the Board appointed Drew Keith as Acting Chief Financial Officer.  Mr. Keith has served as the Company's Vice President - Finance since September 1999.  Before joining the Company, Mr. Keith was Vice President of Wells Fargo Bank (Texas), National Association, one of the Company's primary lender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also announced that it has retained Seabury Advisors LLC and its broker-dealer affiliate, Seabury Securities LLC, to advise the Company in an effort to develop and implement a strategic business plan with the objective of easing the Company's liquidity problems and restructuring the Company's debt.</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Voluntary Chapter 11 Filing for Reorganization</a:t>
            </a:r>
            <a:endParaRPr b="1" lang="en-US" sz="2000" spc="-1" strike="noStrike">
              <a:solidFill>
                <a:srgbClr val="000000"/>
              </a:solidFill>
              <a:latin typeface="Arial"/>
            </a:endParaRPr>
          </a:p>
        </p:txBody>
      </p:sp>
      <p:sp>
        <p:nvSpPr>
          <p:cNvPr id="24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LLAS, May 1, 2000</a:t>
            </a:r>
            <a:r>
              <a:rPr b="0" lang="en-US" sz="1600" spc="-1" strike="noStrike">
                <a:solidFill>
                  <a:srgbClr val="000000"/>
                </a:solidFill>
                <a:latin typeface="Arial"/>
              </a:rPr>
              <a:t> /PRNewswire/ -- Kitty Hawk, Inc. today announced that the company has filed voluntary petitions for protection under the Chapter 11 Bankruptcy Code for the company and all of its subsidiaries. The petitions were filed in U.S. Bankruptcy Court, Northern District of Texas, Fort Worth Division, case number 400-42141-BJH.</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filed for Chapter 11 protection to seek a financial reorganization.  Under Chapter 11, the company and its subsidiaries, will seek to continue to operate their businesses in the ordinary course under the protection of the bankruptcy court while seeking to finalize a plan of reorganization to implement its anticipated restructuring.</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also announced that Conrad Kalitta has resigned from the Board of Directors, effective Saturday, April 29, 2000.</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he company announced that, as part of the previously announced suspension of service of its Kitty Hawk International division, the company is no longer operating its daily scheduled service between Los Angeles and Honolulu, Hawaii inter-island service, and weekly service around the Pacific Rim.</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in ACMI Contracts</a:t>
            </a:r>
            <a:endParaRPr b="1" lang="en-US" sz="2000" spc="-1" strike="noStrike">
              <a:solidFill>
                <a:srgbClr val="000000"/>
              </a:solidFill>
              <a:latin typeface="Arial"/>
            </a:endParaRPr>
          </a:p>
        </p:txBody>
      </p:sp>
      <p:sp>
        <p:nvSpPr>
          <p:cNvPr id="11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craf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w</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z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Responds to Emerald Bay Investors Tender Offer</a:t>
            </a:r>
            <a:endParaRPr b="1" lang="en-US" sz="2000" spc="-1" strike="noStrike">
              <a:solidFill>
                <a:srgbClr val="000000"/>
              </a:solidFill>
              <a:latin typeface="Arial"/>
            </a:endParaRPr>
          </a:p>
        </p:txBody>
      </p:sp>
      <p:sp>
        <p:nvSpPr>
          <p:cNvPr id="24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LAS, Feb. 21, 2001 /PRNewswire/ -- Kitty Hawk, Inc. (OTC Bulletin Board: KTTEQ) (the "Company") announced today that it has received a copy of a notice from Emerald Bay Investors, LLC ("Emerald") stating that Emerald had commenced an unsolicited tender offer for up to $11 million in original face amount of the Company's 9.95% Senior Secured Notes (the "Notes) </a:t>
            </a:r>
            <a:r>
              <a:rPr b="1" i="1" lang="en-US" sz="1800" spc="-1" strike="noStrike" u="sng">
                <a:solidFill>
                  <a:srgbClr val="000000"/>
                </a:solidFill>
                <a:uFillTx/>
                <a:latin typeface="Arial"/>
              </a:rPr>
              <a:t>for a cash purchase price equal to 22% of the original face amount of the Notes purchase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 to Emerald's offering circular received by the Company, Emerald's tender offer is on a first-received, first-buy basis, and all sales of Notes are irrevocable with no withdrawal rights for Notes surrendered pursuant to the tender offer.  Emerald is not affiliated with the Company or its officers or directors.  Pursuant to Rule 14e-2 promulgated under the Securities Act of 1934, as amended, the Company is announcing that it expresses no opinion and is remaining neutral with respect to the tender offer at this tim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Kitty Hawk using Financial Model</a:t>
            </a:r>
            <a:endParaRPr b="1" lang="en-US" sz="2000" spc="-1" strike="noStrike">
              <a:solidFill>
                <a:srgbClr val="000000"/>
              </a:solidFill>
              <a:latin typeface="Arial"/>
            </a:endParaRPr>
          </a:p>
        </p:txBody>
      </p:sp>
      <p:sp>
        <p:nvSpPr>
          <p:cNvPr id="11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Ratio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Key Driver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Merger Option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ichael Jordan</cp:lastModifiedBy>
  <cp:lastPrinted>1999-07-15T13:20:36Z</cp:lastPrinted>
  <dcterms:modified xsi:type="dcterms:W3CDTF">2004-07-25T06:57:01Z</dcterms:modified>
  <cp:revision>86</cp:revision>
  <dc:subject>CLO Course</dc:subject>
  <dc:title>CDO - Introduction</dc:title>
</cp:coreProperties>
</file>